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445760"/>
            <a:ext cx="6940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四  比   例  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比例的意义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015809"/>
          <p:cNvSpPr/>
          <p:nvPr/>
        </p:nvSpPr>
        <p:spPr>
          <a:xfrm>
            <a:off x="254160" y="167004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择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各组中，能组成比例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2∶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∶6            B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8.4∶2.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2∶8.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能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∶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组成比例的比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8∶3          B.0.2∶0.5        C.15∶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文本框 1015812"/>
          <p:cNvSpPr/>
          <p:nvPr/>
        </p:nvSpPr>
        <p:spPr>
          <a:xfrm>
            <a:off x="4680000" y="2134080"/>
            <a:ext cx="876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文本框 1015813"/>
          <p:cNvSpPr/>
          <p:nvPr/>
        </p:nvSpPr>
        <p:spPr>
          <a:xfrm>
            <a:off x="4121280" y="3645360"/>
            <a:ext cx="876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8" name="对象 1015814"/>
          <p:cNvGraphicFramePr/>
          <p:nvPr/>
        </p:nvGraphicFramePr>
        <p:xfrm>
          <a:off x="4175280" y="2754360"/>
          <a:ext cx="11937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对象 10158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2754360"/>
                    <a:ext cx="1193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031169"/>
          <p:cNvSpPr/>
          <p:nvPr/>
        </p:nvSpPr>
        <p:spPr>
          <a:xfrm>
            <a:off x="184320" y="149220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按要求写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组成一个比例的两个比的比值是  ，其中一个比的前项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另一个比的后项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写出这个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5∶5=5∶1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  、  中选出四个数组成比例，应该选哪四个数，请你写出比例式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5∶0.8=   ∶1.2  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案不唯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1" name="对象 1031173"/>
          <p:cNvGraphicFramePr/>
          <p:nvPr/>
        </p:nvGraphicFramePr>
        <p:xfrm>
          <a:off x="4943520" y="2093760"/>
          <a:ext cx="203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对象 10311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3520" y="209376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1031174"/>
          <p:cNvGraphicFramePr/>
          <p:nvPr/>
        </p:nvGraphicFramePr>
        <p:xfrm>
          <a:off x="3243240" y="3579840"/>
          <a:ext cx="3430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对象 10311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3240" y="357984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对象 1031175"/>
          <p:cNvGraphicFramePr/>
          <p:nvPr/>
        </p:nvGraphicFramePr>
        <p:xfrm>
          <a:off x="3938760" y="3597120"/>
          <a:ext cx="19044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对象 10311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8760" y="3597120"/>
                    <a:ext cx="190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对象 1031176"/>
          <p:cNvGraphicFramePr/>
          <p:nvPr/>
        </p:nvGraphicFramePr>
        <p:xfrm>
          <a:off x="1620720" y="4583160"/>
          <a:ext cx="3430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对象 103117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720" y="458316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030145"/>
          <p:cNvSpPr/>
          <p:nvPr/>
        </p:nvSpPr>
        <p:spPr>
          <a:xfrm>
            <a:off x="244440" y="124632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按要求画一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∶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画出下面三角形的放大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30" name="组合 1030152"/>
          <p:cNvGrpSpPr/>
          <p:nvPr/>
        </p:nvGrpSpPr>
        <p:grpSpPr>
          <a:xfrm>
            <a:off x="1414440" y="2895480"/>
            <a:ext cx="6031080" cy="2687760"/>
            <a:chOff x="1414440" y="2895480"/>
            <a:chExt cx="6031080" cy="2687760"/>
          </a:xfrm>
        </p:grpSpPr>
        <p:sp>
          <p:nvSpPr>
            <p:cNvPr id="131" name="矩形 1030151"/>
            <p:cNvSpPr/>
            <p:nvPr/>
          </p:nvSpPr>
          <p:spPr>
            <a:xfrm>
              <a:off x="1414440" y="2895480"/>
              <a:ext cx="6024960" cy="26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2" name="图片 1030153" descr=""/>
            <p:cNvPicPr/>
            <p:nvPr/>
          </p:nvPicPr>
          <p:blipFill>
            <a:blip r:embed="rId1"/>
            <a:stretch/>
          </p:blipFill>
          <p:spPr>
            <a:xfrm>
              <a:off x="1414440" y="2895480"/>
              <a:ext cx="6031080" cy="268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组合 1030158"/>
          <p:cNvGrpSpPr/>
          <p:nvPr/>
        </p:nvGrpSpPr>
        <p:grpSpPr>
          <a:xfrm>
            <a:off x="4079520" y="2919240"/>
            <a:ext cx="2860920" cy="1908360"/>
            <a:chOff x="4079520" y="2919240"/>
            <a:chExt cx="2860920" cy="1908360"/>
          </a:xfrm>
        </p:grpSpPr>
        <p:sp>
          <p:nvSpPr>
            <p:cNvPr id="134" name="直接连接符 1030155"/>
            <p:cNvSpPr/>
            <p:nvPr/>
          </p:nvSpPr>
          <p:spPr>
            <a:xfrm flipH="1">
              <a:off x="4079520" y="2919240"/>
              <a:ext cx="1887480" cy="1908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5" name="直接连接符 1030156"/>
            <p:cNvSpPr/>
            <p:nvPr/>
          </p:nvSpPr>
          <p:spPr>
            <a:xfrm>
              <a:off x="5967360" y="2919240"/>
              <a:ext cx="973080" cy="1908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6" name="直接连接符 1030157"/>
            <p:cNvSpPr/>
            <p:nvPr/>
          </p:nvSpPr>
          <p:spPr>
            <a:xfrm>
              <a:off x="4079880" y="4818240"/>
              <a:ext cx="2851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1028097"/>
          <p:cNvSpPr/>
          <p:nvPr/>
        </p:nvSpPr>
        <p:spPr>
          <a:xfrm>
            <a:off x="204840" y="12542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图中的长方形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比例在方格纸上 画出来；把图中的梯形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∶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比例在方格纸上画出来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38" name="组合 1028101"/>
          <p:cNvGrpSpPr/>
          <p:nvPr/>
        </p:nvGrpSpPr>
        <p:grpSpPr>
          <a:xfrm>
            <a:off x="704880" y="2357280"/>
            <a:ext cx="7704000" cy="3184560"/>
            <a:chOff x="704880" y="2357280"/>
            <a:chExt cx="7704000" cy="3184560"/>
          </a:xfrm>
        </p:grpSpPr>
        <p:sp>
          <p:nvSpPr>
            <p:cNvPr id="139" name="矩形 1028100"/>
            <p:cNvSpPr/>
            <p:nvPr/>
          </p:nvSpPr>
          <p:spPr>
            <a:xfrm>
              <a:off x="704880" y="2357280"/>
              <a:ext cx="7696080" cy="31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0" name="图片 1028102" descr=""/>
            <p:cNvPicPr/>
            <p:nvPr/>
          </p:nvPicPr>
          <p:blipFill>
            <a:blip r:embed="rId1"/>
            <a:stretch/>
          </p:blipFill>
          <p:spPr>
            <a:xfrm>
              <a:off x="704880" y="2357280"/>
              <a:ext cx="7704000" cy="31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矩形 1028104"/>
          <p:cNvSpPr/>
          <p:nvPr/>
        </p:nvSpPr>
        <p:spPr>
          <a:xfrm>
            <a:off x="2614680" y="3932280"/>
            <a:ext cx="609480" cy="122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任意多边形 1028105"/>
          <p:cNvSpPr/>
          <p:nvPr/>
        </p:nvSpPr>
        <p:spPr>
          <a:xfrm>
            <a:off x="5033880" y="3637080"/>
            <a:ext cx="2379600" cy="121896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043457"/>
          <p:cNvSpPr/>
          <p:nvPr/>
        </p:nvSpPr>
        <p:spPr>
          <a:xfrm>
            <a:off x="195120" y="180504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把一个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长方形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∶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扩大后的图形的周长和面积各发生什么变化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周长扩大到原来的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倍，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面积扩大到原来的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倍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577880"/>
            <a:ext cx="9042120" cy="40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长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宽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长方形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∶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比扩大画在纸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上，图纸上的长是（ 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宽是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长方形，长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宽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按一定比例放大后长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宽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它是按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的比扩大的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写一个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2∶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比值相等的比是（      ），再把它们组成比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例（                 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文本框 377030"/>
          <p:cNvSpPr/>
          <p:nvPr/>
        </p:nvSpPr>
        <p:spPr>
          <a:xfrm>
            <a:off x="2820960" y="3048480"/>
            <a:ext cx="517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文本框 377031"/>
          <p:cNvSpPr/>
          <p:nvPr/>
        </p:nvSpPr>
        <p:spPr>
          <a:xfrm>
            <a:off x="4951440" y="3048480"/>
            <a:ext cx="358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文本框 377032"/>
          <p:cNvSpPr/>
          <p:nvPr/>
        </p:nvSpPr>
        <p:spPr>
          <a:xfrm>
            <a:off x="3973680" y="4051800"/>
            <a:ext cx="358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文本框 377033"/>
          <p:cNvSpPr/>
          <p:nvPr/>
        </p:nvSpPr>
        <p:spPr>
          <a:xfrm>
            <a:off x="5091120" y="4051800"/>
            <a:ext cx="358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文本框 377034"/>
          <p:cNvSpPr/>
          <p:nvPr/>
        </p:nvSpPr>
        <p:spPr>
          <a:xfrm>
            <a:off x="5205240" y="4559760"/>
            <a:ext cx="981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∶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文本框 377035"/>
          <p:cNvSpPr/>
          <p:nvPr/>
        </p:nvSpPr>
        <p:spPr>
          <a:xfrm>
            <a:off x="706320" y="5055120"/>
            <a:ext cx="4245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2∶4=2∶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答案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737282"/>
          <p:cNvSpPr/>
          <p:nvPr/>
        </p:nvSpPr>
        <p:spPr>
          <a:xfrm>
            <a:off x="263520" y="122076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别画出正方形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∶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的图形和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缩小后的图形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1" name="图片 737313" descr=""/>
          <p:cNvPicPr/>
          <p:nvPr/>
        </p:nvPicPr>
        <p:blipFill>
          <a:blip r:embed="rId1"/>
          <a:stretch/>
        </p:blipFill>
        <p:spPr>
          <a:xfrm>
            <a:off x="1579680" y="1857240"/>
            <a:ext cx="5740200" cy="3729240"/>
          </a:xfrm>
          <a:prstGeom prst="rect">
            <a:avLst/>
          </a:prstGeom>
          <a:ln w="0">
            <a:noFill/>
          </a:ln>
        </p:spPr>
      </p:pic>
      <p:sp>
        <p:nvSpPr>
          <p:cNvPr id="92" name="矩形 737314"/>
          <p:cNvSpPr/>
          <p:nvPr/>
        </p:nvSpPr>
        <p:spPr>
          <a:xfrm>
            <a:off x="3441600" y="2359080"/>
            <a:ext cx="1338480" cy="1338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矩形 737315"/>
          <p:cNvSpPr/>
          <p:nvPr/>
        </p:nvSpPr>
        <p:spPr>
          <a:xfrm>
            <a:off x="5477040" y="3706920"/>
            <a:ext cx="215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24001"/>
          <p:cNvSpPr/>
          <p:nvPr/>
        </p:nvSpPr>
        <p:spPr>
          <a:xfrm>
            <a:off x="254160" y="1476360"/>
            <a:ext cx="861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六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37 T6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各表中相对应的两个数量的比能否组成比例？如果能组成比例，把组成的比例写出来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5" name="组合 1024008"/>
          <p:cNvGrpSpPr/>
          <p:nvPr/>
        </p:nvGrpSpPr>
        <p:grpSpPr>
          <a:xfrm>
            <a:off x="476280" y="3056040"/>
            <a:ext cx="8072280" cy="2376360"/>
            <a:chOff x="476280" y="3056040"/>
            <a:chExt cx="8072280" cy="2376360"/>
          </a:xfrm>
        </p:grpSpPr>
        <p:sp>
          <p:nvSpPr>
            <p:cNvPr id="96" name="矩形 1024007"/>
            <p:cNvSpPr/>
            <p:nvPr/>
          </p:nvSpPr>
          <p:spPr>
            <a:xfrm>
              <a:off x="476280" y="3056040"/>
              <a:ext cx="806724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97" name="图片 1024009" descr=""/>
            <p:cNvPicPr/>
            <p:nvPr/>
          </p:nvPicPr>
          <p:blipFill>
            <a:blip r:embed="rId1"/>
            <a:stretch/>
          </p:blipFill>
          <p:spPr>
            <a:xfrm>
              <a:off x="476280" y="3056040"/>
              <a:ext cx="807228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012737"/>
          <p:cNvSpPr/>
          <p:nvPr/>
        </p:nvSpPr>
        <p:spPr>
          <a:xfrm>
            <a:off x="225360" y="130644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第一组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0∶4=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60∶6=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比值相等，能组成比例，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0∶4=360∶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第二组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1∶3=0.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5∶5=0.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比值相等，能组成比例，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1∶3=3.5∶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第三组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5∶5=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9∶7=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比值不相等，不能组成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第四组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∶5=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8∶7=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比值相等，能组成比例，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∶5=28∶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025025"/>
          <p:cNvSpPr/>
          <p:nvPr/>
        </p:nvSpPr>
        <p:spPr>
          <a:xfrm>
            <a:off x="254160" y="169848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对应法判断比例是否成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右边的梯形是左边的梯形根据一定的比缩小的，请你看下面的比例式，成立的打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√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不成立的打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0" name="组合 1025040"/>
          <p:cNvGrpSpPr/>
          <p:nvPr/>
        </p:nvGrpSpPr>
        <p:grpSpPr>
          <a:xfrm>
            <a:off x="177840" y="3408480"/>
            <a:ext cx="5168880" cy="1807920"/>
            <a:chOff x="177840" y="3408480"/>
            <a:chExt cx="5168880" cy="1807920"/>
          </a:xfrm>
        </p:grpSpPr>
        <p:sp>
          <p:nvSpPr>
            <p:cNvPr id="101" name="矩形 1025039"/>
            <p:cNvSpPr/>
            <p:nvPr/>
          </p:nvSpPr>
          <p:spPr>
            <a:xfrm>
              <a:off x="177840" y="3408480"/>
              <a:ext cx="5164200" cy="18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02" name="图片 1025041" descr=""/>
            <p:cNvPicPr/>
            <p:nvPr/>
          </p:nvPicPr>
          <p:blipFill>
            <a:blip r:embed="rId1"/>
            <a:stretch/>
          </p:blipFill>
          <p:spPr>
            <a:xfrm>
              <a:off x="177840" y="3408480"/>
              <a:ext cx="5168880" cy="18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组合 1025044"/>
          <p:cNvGrpSpPr/>
          <p:nvPr/>
        </p:nvGrpSpPr>
        <p:grpSpPr>
          <a:xfrm>
            <a:off x="5599080" y="3446640"/>
            <a:ext cx="3013200" cy="1763640"/>
            <a:chOff x="5599080" y="3446640"/>
            <a:chExt cx="3013200" cy="1763640"/>
          </a:xfrm>
        </p:grpSpPr>
        <p:sp>
          <p:nvSpPr>
            <p:cNvPr id="104" name="矩形 1025043"/>
            <p:cNvSpPr/>
            <p:nvPr/>
          </p:nvSpPr>
          <p:spPr>
            <a:xfrm>
              <a:off x="5599080" y="3446640"/>
              <a:ext cx="3008520" cy="17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05" name="图片 1025045" descr=""/>
            <p:cNvPicPr/>
            <p:nvPr/>
          </p:nvPicPr>
          <p:blipFill>
            <a:blip r:embed="rId2"/>
            <a:stretch/>
          </p:blipFill>
          <p:spPr>
            <a:xfrm>
              <a:off x="5599080" y="3446640"/>
              <a:ext cx="3013200" cy="17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27073"/>
          <p:cNvSpPr/>
          <p:nvPr/>
        </p:nvSpPr>
        <p:spPr>
          <a:xfrm>
            <a:off x="254160" y="161784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∶3.2=6∶2.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是对应边，能组成比例，应打“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”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∶8=4.8∶3.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是对应边，能组成比例，应打“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”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.5∶2.6=2.4∶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不是对应边，不能组成比例，应打“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”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∶4.8=8∶2.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不是对应边，不能组成比例，应打“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”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046529"/>
          <p:cNvSpPr/>
          <p:nvPr/>
        </p:nvSpPr>
        <p:spPr>
          <a:xfrm>
            <a:off x="254160" y="140796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图形中，右面的图形是左面的图形根据一定比缩小后的图形，你能写出几组比例式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8" name="图片 1046530" descr=""/>
          <p:cNvPicPr/>
          <p:nvPr/>
        </p:nvPicPr>
        <p:blipFill>
          <a:blip r:embed="rId1"/>
          <a:stretch/>
        </p:blipFill>
        <p:spPr>
          <a:xfrm>
            <a:off x="539640" y="3105000"/>
            <a:ext cx="4202280" cy="23907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046531"/>
          <p:cNvSpPr/>
          <p:nvPr/>
        </p:nvSpPr>
        <p:spPr>
          <a:xfrm>
            <a:off x="5407200" y="3057480"/>
            <a:ext cx="31320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∶5=3.2∶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∶8=2∶3.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∶3.2=5∶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2∶8=2∶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014785"/>
          <p:cNvSpPr/>
          <p:nvPr/>
        </p:nvSpPr>
        <p:spPr>
          <a:xfrm>
            <a:off x="272880" y="186372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图形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缩小后，长是（  ）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宽是（  ）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写出两组比值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比，再组成比例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文本框 1014802"/>
          <p:cNvSpPr/>
          <p:nvPr/>
        </p:nvSpPr>
        <p:spPr>
          <a:xfrm>
            <a:off x="7501320" y="2832480"/>
            <a:ext cx="34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文本框 1014803"/>
          <p:cNvSpPr/>
          <p:nvPr/>
        </p:nvSpPr>
        <p:spPr>
          <a:xfrm>
            <a:off x="1735560" y="3327840"/>
            <a:ext cx="34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文本框 1014804"/>
          <p:cNvSpPr/>
          <p:nvPr/>
        </p:nvSpPr>
        <p:spPr>
          <a:xfrm>
            <a:off x="6277680" y="3873960"/>
            <a:ext cx="2114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2∶1=2∶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答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文本框 1014805"/>
          <p:cNvSpPr/>
          <p:nvPr/>
        </p:nvSpPr>
        <p:spPr>
          <a:xfrm>
            <a:off x="773280" y="4369320"/>
            <a:ext cx="459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44Z</dcterms:created>
  <dc:creator>世纪金榜</dc:creator>
  <dc:description/>
  <dc:language>en-US</dc:language>
  <cp:lastModifiedBy>admin</cp:lastModifiedBy>
  <dcterms:modified xsi:type="dcterms:W3CDTF">2018-01-22T00:34:40Z</dcterms:modified>
  <cp:revision>1316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